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82B-C428-4157-B647-11178772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2DB-CE9B-44B9-8B9C-BB9698B1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C3C-3D51-4708-A46F-08CB6CDF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A29-4720-4F7E-B443-6F70EA9E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593-C353-4105-9EB7-F493DB10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08F-6351-476A-AD6A-6D12B85B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671-4A3D-47FE-9FAC-255F41FB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4E3-5C16-46B0-8EC7-BC16E8E3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45E-AE89-4995-8DF2-03297C7F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E15-3287-4A61-BB56-3981C640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C81-B5FD-4233-9CD5-324F65BA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EDA-2548-4A2F-B1AE-1F296BDB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CDA2-6D9A-4232-95A3-074AA5CB3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ly Source of all tha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the eternal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Jesus Chr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easelessly breathing the Spir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cre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trust in God’s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isdo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ully revealed in the huma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esent to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Spirit’s wo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Church and beyo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that God is cal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hol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a future of justice and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hare in Christ’s risen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mit ourselves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rece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ing reign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the only God, Three yet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all honour and glory and pra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08:39Z</dcterms:created>
  <dc:creator>Anon Anon</dc:creator>
  <dc:description/>
  <dc:language>en-US</dc:language>
  <cp:lastModifiedBy>Anon Anon</cp:lastModifiedBy>
  <dcterms:modified xsi:type="dcterms:W3CDTF">2005-08-09T05:03:36Z</dcterms:modified>
  <cp:revision>7</cp:revision>
  <dc:subject/>
  <dc:title>PowerPoint Presentation</dc:title>
</cp:coreProperties>
</file>